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466-17D2-42F3-BAD7-146F2841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360-C2B7-4E30-BB74-8CEDD5D8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E83-C3D4-4885-B5DA-B6E4429F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351-2AEF-40CC-8E8B-270F5EBB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142F-6311-4D56-BCB1-197B7DC3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4D2D-430C-4BCE-9501-11327B30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4DF5-83C1-4681-9BA1-B1582AD1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B9FF-D5FB-4D74-A5B3-EC30B1B1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3FC8-A377-45A9-81DA-B3D87A65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C4AF-0DFD-40FE-A20F-82A1EAE5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B1CF-CE45-4879-BBF8-69E3851D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DE6-5838-4582-A48A-E1EDB0FE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9BB1-79C9-4E0A-981A-47B31540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8F02-9743-4F5F-ADAA-75F3B8E1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604E-4B91-4931-9946-52C6A84A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5D0E-CC95-4652-85B2-83971BA5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0E1E-6211-429E-AD11-71184824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760-F947-461B-9CE4-1B61DF0B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829-C4BA-4FCA-9BD0-F57DD37F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516-D364-4DFE-BC2E-0CE997DF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6E4-0E46-4412-9FB2-13B5B803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E5E-4C51-438D-A2C7-619923A4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657-255D-4D20-B1D6-8DDA27CE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B76-37DC-41F5-8AAD-15FC89B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FF4F-CE3D-4954-A3CF-044ECC1159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BFBF-FBD7-452B-9AF4-51547AE1BB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i.edu/~iowawet/H2OPropertie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211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13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adhesion and cohe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it important to plants that water is pol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rId1"/>
          </p:cNvPr>
          <p:cNvSpPr/>
          <p:nvPr/>
        </p:nvSpPr>
        <p:spPr>
          <a:xfrm>
            <a:off x="4114800" y="39625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1188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763" h="21600">
                <a:moveTo>
                  <a:pt x="1188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763" h="21600">
                <a:moveTo>
                  <a:pt x="9305" y="8224"/>
                </a:moveTo>
                <a:lnTo>
                  <a:pt x="13170" y="8224"/>
                </a:lnTo>
                <a:lnTo>
                  <a:pt x="13170" y="15221"/>
                </a:lnTo>
                <a:lnTo>
                  <a:pt x="14458" y="15221"/>
                </a:lnTo>
                <a:lnTo>
                  <a:pt x="14458" y="16144"/>
                </a:lnTo>
                <a:lnTo>
                  <a:pt x="9305" y="16144"/>
                </a:lnTo>
                <a:lnTo>
                  <a:pt x="9305" y="15221"/>
                </a:lnTo>
                <a:lnTo>
                  <a:pt x="10593" y="15221"/>
                </a:lnTo>
                <a:lnTo>
                  <a:pt x="10593" y="9129"/>
                </a:lnTo>
                <a:lnTo>
                  <a:pt x="9305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7:19:04Z</dcterms:created>
  <dc:creator>PritchaJ</dc:creator>
  <dc:description/>
  <dc:language>en-US</dc:language>
  <cp:lastModifiedBy>PritchaJ</cp:lastModifiedBy>
  <dcterms:modified xsi:type="dcterms:W3CDTF">2011-05-24T17:20:11Z</dcterms:modified>
  <cp:revision>1</cp:revision>
  <dc:subject/>
  <dc:title>Slide 1</dc:title>
</cp:coreProperties>
</file>